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9222D-9F68-4885-8B22-FAED1AD35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5654F-8F76-42B6-A186-42F1CF502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E2857-BCDA-405F-92C7-CF974B618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DA3E3-1309-4FDC-9B85-52620EC98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29503-CE85-4AE0-B67C-3026397C8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5906B-866C-4048-88B7-6C5DBEC3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92741-3922-4256-A9DC-EF70B59C0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E969A-CE22-4D2A-BD7B-A79006A90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C8240-CBF1-470B-B299-3E14B15F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DC31F-10CA-4242-A886-9C949351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6FF16-407B-42AA-819B-E47E45D9F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52CEA-EEF0-4E01-BCC1-727B712E7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DB11-0267-4937-81A6-040A9FC32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066680" y="4419720"/>
            <a:ext cx="6172200" cy="50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daptat după Manual de Psihologie, clasa a X-a, coordonator Mielu </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46"/>
                                        </p:tgtEl>
                                        <p:attrNameLst>
                                          <p:attrName>fillcolor</p:attrName>
                                        </p:attrNameLst>
                                      </p:cBhvr>
                                      <p:to>
                                        <a:srgbClr val="ffff09"/>
                                      </p:to>
                                    </p:animClr>
                                    <p:set>
                                      <p:cBhvr>
                                        <p:cTn id="7" dur="2000" fill="hold"/>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0-08-28T10:17:48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